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DB5B-991F-42C7-ABD6-88846CC9B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C433-AEC3-4ACD-8FD5-E87996636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F5C7-2786-4BB0-AA8F-DC2660826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0F06-ACD1-4FF7-BECD-8B9871BEB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E5BF6-58CB-4BAA-84C0-EAA159664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386B3-F46F-45E1-9981-F6D78E507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758C3-5210-4D54-A0F8-74154CCDF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FB2FF-444F-4AEA-9FCC-CAE53D560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CFF25-881F-439F-8633-F4F0B7F1E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0160" y="2133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8139C-A479-4958-BF7E-26658D9DB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A42F9-4FEE-4C73-9FA3-9A15211A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21B6-DC26-41A4-AD46-1FBAFF879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5A3A6-4932-409B-B0B2-202386B4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384CC-8317-476F-8E57-FA424199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99FDF-F000-4870-BAFC-7ADB473A9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14665-BA7A-436E-A6FE-EAF696B79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30ED1-8269-4F26-82F3-2AB82FBCA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7C03-D43D-4AE5-8B7F-D860349B7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D0D7-5F07-428D-AB22-C3B36ECBA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0D85-C55A-4D44-A881-B6C0DAEDE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370160" y="2133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2CF6-6C6F-4601-A792-7F429D750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9553-C689-49FD-8427-017AAA82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D126-18C2-456E-B1A2-30B7454C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C629-5963-413C-A8BB-BCA2C8FF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03040" y="276120"/>
            <a:ext cx="1260720" cy="1602000"/>
            <a:chOff x="203040" y="276120"/>
            <a:chExt cx="1260720" cy="1602000"/>
          </a:xfrm>
        </p:grpSpPr>
        <p:grpSp>
          <p:nvGrpSpPr>
            <p:cNvPr id="1" name=""/>
            <p:cNvGrpSpPr/>
            <p:nvPr/>
          </p:nvGrpSpPr>
          <p:grpSpPr>
            <a:xfrm>
              <a:off x="203040" y="276120"/>
              <a:ext cx="1170000" cy="1602000"/>
              <a:chOff x="203040" y="276120"/>
              <a:chExt cx="1170000" cy="1602000"/>
            </a:xfrm>
          </p:grpSpPr>
          <p:sp>
            <p:nvSpPr>
              <p:cNvPr id="2" name=""/>
              <p:cNvSpPr/>
              <p:nvPr/>
            </p:nvSpPr>
            <p:spPr>
              <a:xfrm>
                <a:off x="312840" y="431640"/>
                <a:ext cx="950760" cy="1293840"/>
              </a:xfrm>
              <a:custGeom>
                <a:avLst/>
                <a:gdLst/>
                <a:ahLst/>
                <a:rect l="l" t="t" r="r" b="b"/>
                <a:pathLst>
                  <a:path w="599" h="815">
                    <a:moveTo>
                      <a:pt x="299" y="0"/>
                    </a:moveTo>
                    <a:lnTo>
                      <a:pt x="0" y="407"/>
                    </a:lnTo>
                    <a:lnTo>
                      <a:pt x="299" y="814"/>
                    </a:lnTo>
                    <a:lnTo>
                      <a:pt x="598" y="407"/>
                    </a:lnTo>
                    <a:lnTo>
                      <a:pt x="299" y="0"/>
                    </a:lnTo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" name=""/>
              <p:cNvGrpSpPr/>
              <p:nvPr/>
            </p:nvGrpSpPr>
            <p:grpSpPr>
              <a:xfrm>
                <a:off x="203040" y="276120"/>
                <a:ext cx="1170000" cy="801720"/>
                <a:chOff x="203040" y="276120"/>
                <a:chExt cx="1170000" cy="80172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787320" y="27612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0" y="100"/>
                      </a:moveTo>
                      <a:lnTo>
                        <a:pt x="0" y="0"/>
                      </a:lnTo>
                      <a:lnTo>
                        <a:pt x="368" y="504"/>
                      </a:lnTo>
                      <a:lnTo>
                        <a:pt x="295" y="504"/>
                      </a:lnTo>
                      <a:lnTo>
                        <a:pt x="0" y="10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03040" y="27612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368" y="0"/>
                      </a:moveTo>
                      <a:lnTo>
                        <a:pt x="368" y="100"/>
                      </a:lnTo>
                      <a:lnTo>
                        <a:pt x="73" y="504"/>
                      </a:lnTo>
                      <a:lnTo>
                        <a:pt x="0" y="504"/>
                      </a:lnTo>
                      <a:lnTo>
                        <a:pt x="368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" name=""/>
              <p:cNvGrpSpPr/>
              <p:nvPr/>
            </p:nvGrpSpPr>
            <p:grpSpPr>
              <a:xfrm>
                <a:off x="203040" y="1076400"/>
                <a:ext cx="1170000" cy="801720"/>
                <a:chOff x="203040" y="1076400"/>
                <a:chExt cx="1170000" cy="8017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787320" y="107640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295" y="0"/>
                      </a:moveTo>
                      <a:lnTo>
                        <a:pt x="368" y="0"/>
                      </a:lnTo>
                      <a:lnTo>
                        <a:pt x="0" y="504"/>
                      </a:lnTo>
                      <a:lnTo>
                        <a:pt x="0" y="404"/>
                      </a:lnTo>
                      <a:lnTo>
                        <a:pt x="29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203040" y="107640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73" y="0"/>
                      </a:moveTo>
                      <a:lnTo>
                        <a:pt x="368" y="404"/>
                      </a:lnTo>
                      <a:lnTo>
                        <a:pt x="368" y="504"/>
                      </a:lnTo>
                      <a:lnTo>
                        <a:pt x="0" y="0"/>
                      </a:lnTo>
                      <a:lnTo>
                        <a:pt x="73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" name=""/>
            <p:cNvGrpSpPr/>
            <p:nvPr/>
          </p:nvGrpSpPr>
          <p:grpSpPr>
            <a:xfrm>
              <a:off x="630360" y="334800"/>
              <a:ext cx="833400" cy="762120"/>
              <a:chOff x="630360" y="334800"/>
              <a:chExt cx="833400" cy="762120"/>
            </a:xfrm>
          </p:grpSpPr>
          <p:sp>
            <p:nvSpPr>
              <p:cNvPr id="10" name=""/>
              <p:cNvSpPr/>
              <p:nvPr/>
            </p:nvSpPr>
            <p:spPr>
              <a:xfrm>
                <a:off x="630360" y="33480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44480" y="43812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33400" y="45252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993600" y="64764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cccc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5C2FB-4C38-4FEB-8677-A56A000B3E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152280" y="2286000"/>
            <a:ext cx="1463760" cy="2182680"/>
            <a:chOff x="152280" y="2286000"/>
            <a:chExt cx="1463760" cy="2182680"/>
          </a:xfrm>
        </p:grpSpPr>
        <p:grpSp>
          <p:nvGrpSpPr>
            <p:cNvPr id="56" name=""/>
            <p:cNvGrpSpPr/>
            <p:nvPr/>
          </p:nvGrpSpPr>
          <p:grpSpPr>
            <a:xfrm>
              <a:off x="152280" y="2286000"/>
              <a:ext cx="1449360" cy="2182680"/>
              <a:chOff x="152280" y="2286000"/>
              <a:chExt cx="1449360" cy="2182680"/>
            </a:xfrm>
          </p:grpSpPr>
          <p:sp>
            <p:nvSpPr>
              <p:cNvPr id="57" name=""/>
              <p:cNvSpPr/>
              <p:nvPr/>
            </p:nvSpPr>
            <p:spPr>
              <a:xfrm>
                <a:off x="287280" y="2498760"/>
                <a:ext cx="1177920" cy="1762200"/>
              </a:xfrm>
              <a:custGeom>
                <a:avLst/>
                <a:gdLst/>
                <a:ahLst/>
                <a:rect l="l" t="t" r="r" b="b"/>
                <a:pathLst>
                  <a:path w="742" h="1110">
                    <a:moveTo>
                      <a:pt x="370" y="0"/>
                    </a:moveTo>
                    <a:lnTo>
                      <a:pt x="0" y="554"/>
                    </a:lnTo>
                    <a:lnTo>
                      <a:pt x="370" y="1109"/>
                    </a:lnTo>
                    <a:lnTo>
                      <a:pt x="741" y="554"/>
                    </a:lnTo>
                    <a:lnTo>
                      <a:pt x="370" y="0"/>
                    </a:lnTo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8" name=""/>
              <p:cNvGrpSpPr/>
              <p:nvPr/>
            </p:nvGrpSpPr>
            <p:grpSpPr>
              <a:xfrm>
                <a:off x="152280" y="2286000"/>
                <a:ext cx="1449360" cy="1092240"/>
                <a:chOff x="152280" y="2286000"/>
                <a:chExt cx="1449360" cy="109224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876240" y="228600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0" y="136"/>
                      </a:moveTo>
                      <a:lnTo>
                        <a:pt x="0" y="0"/>
                      </a:lnTo>
                      <a:lnTo>
                        <a:pt x="456" y="687"/>
                      </a:lnTo>
                      <a:lnTo>
                        <a:pt x="365" y="687"/>
                      </a:lnTo>
                      <a:lnTo>
                        <a:pt x="0" y="136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152280" y="228600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456" y="0"/>
                      </a:moveTo>
                      <a:lnTo>
                        <a:pt x="456" y="136"/>
                      </a:lnTo>
                      <a:lnTo>
                        <a:pt x="90" y="687"/>
                      </a:lnTo>
                      <a:lnTo>
                        <a:pt x="0" y="687"/>
                      </a:lnTo>
                      <a:lnTo>
                        <a:pt x="456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"/>
              <p:cNvGrpSpPr/>
              <p:nvPr/>
            </p:nvGrpSpPr>
            <p:grpSpPr>
              <a:xfrm>
                <a:off x="152280" y="3376440"/>
                <a:ext cx="1449360" cy="1092240"/>
                <a:chOff x="152280" y="3376440"/>
                <a:chExt cx="1449360" cy="109224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876240" y="337644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365" y="0"/>
                      </a:moveTo>
                      <a:lnTo>
                        <a:pt x="456" y="0"/>
                      </a:lnTo>
                      <a:lnTo>
                        <a:pt x="0" y="687"/>
                      </a:lnTo>
                      <a:lnTo>
                        <a:pt x="0" y="550"/>
                      </a:lnTo>
                      <a:lnTo>
                        <a:pt x="36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2280" y="337644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90" y="0"/>
                      </a:moveTo>
                      <a:lnTo>
                        <a:pt x="456" y="550"/>
                      </a:lnTo>
                      <a:lnTo>
                        <a:pt x="456" y="687"/>
                      </a:lnTo>
                      <a:lnTo>
                        <a:pt x="0" y="0"/>
                      </a:lnTo>
                      <a:lnTo>
                        <a:pt x="90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" name=""/>
            <p:cNvGrpSpPr/>
            <p:nvPr/>
          </p:nvGrpSpPr>
          <p:grpSpPr>
            <a:xfrm>
              <a:off x="782640" y="2468520"/>
              <a:ext cx="833400" cy="762120"/>
              <a:chOff x="782640" y="2468520"/>
              <a:chExt cx="833400" cy="762120"/>
            </a:xfrm>
          </p:grpSpPr>
          <p:sp>
            <p:nvSpPr>
              <p:cNvPr id="65" name=""/>
              <p:cNvSpPr/>
              <p:nvPr/>
            </p:nvSpPr>
            <p:spPr>
              <a:xfrm>
                <a:off x="782640" y="246852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257184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85680" y="258588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146240" y="278136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369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80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7237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101BF-B829-4D09-AB6B-6507A77A30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cc"/>
              </a:buClr>
              <a:buSzPct val="62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cc"/>
              </a:buClr>
              <a:buSzPct val="62000"/>
              <a:buFont typeface="Monotype Sort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676520" y="304920"/>
            <a:ext cx="6400800" cy="57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35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60093"/>
                </a:solidFill>
                <a:latin typeface="Times New Roman"/>
              </a:rPr>
              <a:t>L V M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3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Logical Volume Manager for Linux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einz Mauelshag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linux.LVM@ez-darmstadt.telekom.d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/02/1999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torage Architectur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 with 2 PVs and 1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600200" y="2666880"/>
            <a:ext cx="5943600" cy="2743200"/>
            <a:chOff x="1600200" y="2666880"/>
            <a:chExt cx="5943600" cy="2743200"/>
          </a:xfrm>
        </p:grpSpPr>
        <p:sp>
          <p:nvSpPr>
            <p:cNvPr id="154" name=""/>
            <p:cNvSpPr/>
            <p:nvPr/>
          </p:nvSpPr>
          <p:spPr>
            <a:xfrm>
              <a:off x="1600200" y="4630680"/>
              <a:ext cx="5943600" cy="779400"/>
            </a:xfrm>
            <a:prstGeom prst="ellipse">
              <a:avLst/>
            </a:prstGeom>
            <a:gradFill rotWithShape="0">
              <a:gsLst>
                <a:gs pos="0">
                  <a:srgbClr val="008d8d"/>
                </a:gs>
                <a:gs pos="50000">
                  <a:srgbClr val="00cccc"/>
                </a:gs>
                <a:gs pos="100000">
                  <a:srgbClr val="008d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00200" y="3121200"/>
              <a:ext cx="5943600" cy="1908000"/>
            </a:xfrm>
            <a:prstGeom prst="rect">
              <a:avLst/>
            </a:prstGeom>
            <a:gradFill rotWithShape="0">
              <a:gsLst>
                <a:gs pos="0">
                  <a:srgbClr val="008d8d"/>
                </a:gs>
                <a:gs pos="50000">
                  <a:srgbClr val="00cccc"/>
                </a:gs>
                <a:gs pos="100000">
                  <a:srgbClr val="008d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1600200" y="2666880"/>
              <a:ext cx="5943600" cy="838440"/>
              <a:chOff x="1600200" y="2666880"/>
              <a:chExt cx="5943600" cy="838440"/>
            </a:xfrm>
          </p:grpSpPr>
          <p:sp>
            <p:nvSpPr>
              <p:cNvPr id="157" name=""/>
              <p:cNvSpPr/>
              <p:nvPr/>
            </p:nvSpPr>
            <p:spPr>
              <a:xfrm>
                <a:off x="1600200" y="2666880"/>
                <a:ext cx="5943600" cy="838440"/>
              </a:xfrm>
              <a:prstGeom prst="ellipse">
                <a:avLst/>
              </a:prstGeom>
              <a:gradFill rotWithShape="0">
                <a:gsLst>
                  <a:gs pos="0">
                    <a:srgbClr val="00cccc"/>
                  </a:gs>
                  <a:gs pos="100000">
                    <a:srgbClr val="008d8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572000" y="2819520"/>
                <a:ext cx="2438280" cy="533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133720" y="2819520"/>
                <a:ext cx="2438280" cy="533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0" name=""/>
          <p:cNvGrpSpPr/>
          <p:nvPr/>
        </p:nvGrpSpPr>
        <p:grpSpPr>
          <a:xfrm>
            <a:off x="1828800" y="3657600"/>
            <a:ext cx="5486400" cy="1676520"/>
            <a:chOff x="1828800" y="3657600"/>
            <a:chExt cx="5486400" cy="1676520"/>
          </a:xfrm>
        </p:grpSpPr>
        <p:sp>
          <p:nvSpPr>
            <p:cNvPr id="161" name=""/>
            <p:cNvSpPr/>
            <p:nvPr/>
          </p:nvSpPr>
          <p:spPr>
            <a:xfrm>
              <a:off x="1828800" y="4724280"/>
              <a:ext cx="5486400" cy="609840"/>
            </a:xfrm>
            <a:prstGeom prst="ellipse">
              <a:avLst/>
            </a:prstGeom>
            <a:gradFill rotWithShape="0">
              <a:gsLst>
                <a:gs pos="0">
                  <a:srgbClr val="7834b1"/>
                </a:gs>
                <a:gs pos="50000">
                  <a:srgbClr val="ad4cff"/>
                </a:gs>
                <a:gs pos="100000">
                  <a:srgbClr val="7834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28800" y="4035600"/>
              <a:ext cx="5486400" cy="993600"/>
            </a:xfrm>
            <a:prstGeom prst="rect">
              <a:avLst/>
            </a:prstGeom>
            <a:gradFill rotWithShape="0">
              <a:gsLst>
                <a:gs pos="0">
                  <a:srgbClr val="7834b1"/>
                </a:gs>
                <a:gs pos="50000">
                  <a:srgbClr val="ad4cff"/>
                </a:gs>
                <a:gs pos="100000">
                  <a:srgbClr val="7834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28800" y="3657600"/>
              <a:ext cx="5486400" cy="685800"/>
            </a:xfrm>
            <a:prstGeom prst="ellipse">
              <a:avLst/>
            </a:prstGeom>
            <a:gradFill rotWithShape="0">
              <a:gsLst>
                <a:gs pos="0">
                  <a:srgbClr val="ad4cff"/>
                </a:gs>
                <a:gs pos="100000">
                  <a:srgbClr val="7834b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4218480" y="5456160"/>
            <a:ext cx="727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106600" y="5106960"/>
            <a:ext cx="531720" cy="608040"/>
          </a:xfrm>
          <a:prstGeom prst="line">
            <a:avLst/>
          </a:prstGeom>
          <a:ln w="25560">
            <a:solidFill>
              <a:srgbClr val="ad4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75400" y="2986200"/>
            <a:ext cx="1413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Times New Roman"/>
              </a:rPr>
              <a:t>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56800" y="2833560"/>
            <a:ext cx="1368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Times New Roman"/>
              </a:rPr>
              <a:t>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71400" y="2833560"/>
            <a:ext cx="1368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Times New Roman"/>
              </a:rPr>
              <a:t>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PV Command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change - changes PV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pvcreate   - initializes VGDA on a 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data      - displays VGDA (debugg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display - shows PV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move    - moves PEs/LEs between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scan      - searches for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VG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cfgbacku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does a VGDA back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cfgrestor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stores VGDA to a 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vgchange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- changes VG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c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heck 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vgcreate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- creates a new 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displa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hows VG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expor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make VG „unknown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VG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exten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extend a VG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impor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make a VG „known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mer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merge two V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mknod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reate device speci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redu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duceVG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remov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delete empty 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VG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3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renam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name an inactive 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vgscan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- search for VG(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spli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plit a VG into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LV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2fsad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extend or reduce LVs with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included ext2 Dateisystem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(resize2fs neede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chan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hange LV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lvcreate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- create a new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displa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how LV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extend          - extend LV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LV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reduce          - reduce LV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remov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delete inactive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renam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name an inactive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sca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earch for L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LVM Command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mchan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set LVM in case of a test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emerg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mdisksca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earch for disks, disk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partitions or multipl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dev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msad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ollect LV read/write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msa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port of collected LV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statistic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oftware Metric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304920" bIns="30492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9 VGs ma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56 LVs total (8 bit minor #) in all V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p to 65534 PEs tot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p to 65534 LEs per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/LE sizes between several KB 8*) and G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than 1000 TB but limited by int variables in the Linux I/O subsystem to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oftware Metric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800 hours 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than 34000 LOC (Lines Of Code) including all sources, comments, manual pages, scripts, makefiles, READMEs, 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29000 LOC sou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ul/driver with 3200 LO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2 library functions in 127 source mod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5 comma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Goal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ild a flexible I/O-system extension for Linux to gain a virtual view on mass stor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exible scaling of mass storage capacities in wide ran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ension and reduction of storage without system interrup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ease it GNU licen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6360" y="2025720"/>
            <a:ext cx="8262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1905120"/>
            <a:ext cx="7848720" cy="62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a VG “test” with 2 PVs (/dev/sd[kl]1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1 LV “tlv” containing an EXT2F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fdisk /dev/sdk       #  set partition type identifier to0xF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fdisk /dev/sdl       #                  “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pvcreate /dev/sd[kl]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create -- physical volume “/dev/sdk1” successfully cre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create -- physical volume “/dev/sdl1” successfully cre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create test /dev/sd[kl]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create -- INFO: using default physical extent size of 4 MB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create -- INFO: maximum logical volume size is 256 Gigaby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create -- doing automatic backup of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create -- volume group “test” successfully cre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DA stored on /dev/sd[kl]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racter special file /dev/test/gro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DA backup stored in /etc/lvmconf/test.con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 name added to /etc/lvmtab and working copy stored in /etc/lvmtab.d/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DA is loaded into the driver so that VG “test” can be acces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continued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5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lvcreate -L 300 -n tlv test # /dev/sdk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create -- doing automatic backup of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create -- logical volume “/dev/test/tlv” successfully cre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mke2fs /dev/test/tl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ke2fs 1.10, 24-Apr-97 for EXT2 FS .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SNIP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Writing superblocks and filesystem accounting information: do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mount /dev/test/tlv /usr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baseline="30000">
                <a:solidFill>
                  <a:srgbClr val="ffffff"/>
                </a:solidFill>
                <a:latin typeface="Courier New"/>
              </a:rPr>
              <a:t>. . . 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ock special file /dev/test/tlv mapping a size of 300 M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working copy stored in /etc/lvmtab.d/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etc/lvmtab.d/test.conf renamed to /etc/lvmtab.d/test.conf.o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backup  of VGDA stored in  /etc/lvmtab.d/test.con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nged VGDA loaded into the driver to be able to access /dev/test/t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unted EXT2 filesystem in /dev/test/t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play attributes of  VG “test”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display 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Volume group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Nam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Write Acces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ad/wr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/extend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#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Open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LV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ct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6.184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E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58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oc PE /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5 / 300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ee PE /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508 / 5.891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3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play attributes of  VG “test”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verbos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13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display -v 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SNIP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Logical volume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Nam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test/tl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NAM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Write Acces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ad/wr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#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open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300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rent L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ocated L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5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ocation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ext fre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lock devic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8: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ourier New"/>
              </a:rPr>
              <a:t>to be continued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3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Physical volumes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Name (#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sdk1 (1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 / alloca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 / Free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074 / 99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Name (#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sdl1 (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 / alloca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 / Free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09 / 5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4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ve the LEs of LV /dev/test/tlv away from PV /dev/sdk1 to PV /dev/sd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pvmove -f /dev/sdk1    # /dev/sdl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move -- moving physical extents in active volume group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move -- doing automatic backup of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move -- 75 extents of physical volume successfully mov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4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display -v test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SNIP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Physical volumes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Name (#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sdk1 (1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 / alloca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 / Free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074 / 107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Name (#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sdl1 (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 / alloca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 / Free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09 / 43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age of physical disks, disk partitions or multiple devices as  PVs (Physical Volumes; basic allocation device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ther PVs in VGs (Volume Groups; virtual disk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ocation of VG storage to LVs (Logical Volumes; virtual partitions) in basic units called PEs (Physical Exten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5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520" y="1905120"/>
            <a:ext cx="7554960" cy="31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duce VG “test” by the free PV /dev/sdk1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reduce test /dev/sdk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reduce -- doing automatic backup of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reduce -- “test” successfully reduc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5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display 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Volume group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Nam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Write Acces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ad/wr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/extend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#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Open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LV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ct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6.184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E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oc PE /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5 / 300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ee PE /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34 / 1.7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The Future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lementation of RAID1/5/10/5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ot-filesystem in a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grate driver into Linux 2.3 kern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ociate UUIDs (Uniform Unique Identifiers) to VGs and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end VGDA by additional attributes like LV creation time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Who and Where?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LVM software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linux.msede.com/lv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Mail-list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ux-lvm@msede.com (majordom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Author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ux-lvm@ez-darmstadt.telekom.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07880" y="1905120"/>
            <a:ext cx="670716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00cccc"/>
                </a:solidFill>
                <a:latin typeface="Times New Roman"/>
              </a:rPr>
              <a:t>Thank you :-)</a:t>
            </a:r>
            <a:endParaRPr b="0" i="1" lang="en-US" sz="8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the address space of the LVs in units of LEs (Logical Extents; kind of block) to the PEs on the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end and reduce VGs and LVs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LVs like disks, disk partitions or multiple devices for filesystems, databases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3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ess VGs and LVs via device special files named /dev/VolumeGroupName/*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ore configuration information (VGDA or Volume Group Descriptor Area) on each PV of a VG and for performance reasons in a working copy on file in /etc/lvmtab.d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VGDA holds all the attributes of the PV, VG, LVs and the allocation of the 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4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the LEs (Logical Extents) of LVs to the PEs of the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ld the attributes and the mapping tables in a LVM driver (loadable as a module to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 calls to the mapping function of the driver in “/usr/src/linux/drivers/block/ll_rw_blk.c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5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ild a command and a library layer to ease the integration of different or additional tools or graphical user interfa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ort and import VGs to bring them to or get them from different computer syst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 linear and striped (RAID0) L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torage Architectur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786200" y="2819520"/>
            <a:ext cx="2438280" cy="2361960"/>
            <a:chOff x="4786200" y="2819520"/>
            <a:chExt cx="2438280" cy="2361960"/>
          </a:xfrm>
        </p:grpSpPr>
        <p:sp>
          <p:nvSpPr>
            <p:cNvPr id="127" name=""/>
            <p:cNvSpPr/>
            <p:nvPr/>
          </p:nvSpPr>
          <p:spPr>
            <a:xfrm>
              <a:off x="4786200" y="4648320"/>
              <a:ext cx="2438280" cy="533160"/>
            </a:xfrm>
            <a:prstGeom prst="ellipse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786200" y="3124080"/>
              <a:ext cx="2438280" cy="182880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786200" y="2819520"/>
              <a:ext cx="2438280" cy="5331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2133720" y="2819520"/>
            <a:ext cx="2438280" cy="2377440"/>
            <a:chOff x="2133720" y="2819520"/>
            <a:chExt cx="2438280" cy="2377440"/>
          </a:xfrm>
        </p:grpSpPr>
        <p:sp>
          <p:nvSpPr>
            <p:cNvPr id="131" name=""/>
            <p:cNvSpPr/>
            <p:nvPr/>
          </p:nvSpPr>
          <p:spPr>
            <a:xfrm>
              <a:off x="2133720" y="4660560"/>
              <a:ext cx="2438280" cy="536400"/>
            </a:xfrm>
            <a:prstGeom prst="ellipse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33720" y="3125880"/>
              <a:ext cx="2438280" cy="184104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33720" y="2819520"/>
              <a:ext cx="2438280" cy="5364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30440" y="5335560"/>
            <a:ext cx="2284200" cy="700560"/>
            <a:chOff x="3430440" y="5335560"/>
            <a:chExt cx="2284200" cy="700560"/>
          </a:xfrm>
        </p:grpSpPr>
        <p:sp>
          <p:nvSpPr>
            <p:cNvPr id="135" name=""/>
            <p:cNvSpPr/>
            <p:nvPr/>
          </p:nvSpPr>
          <p:spPr>
            <a:xfrm>
              <a:off x="3996000" y="5456160"/>
              <a:ext cx="11696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2 PV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5106600" y="5335560"/>
              <a:ext cx="608040" cy="37944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30440" y="5335560"/>
              <a:ext cx="608040" cy="37944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torage Architectur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 with 2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00200" y="2666880"/>
            <a:ext cx="5943600" cy="3369240"/>
            <a:chOff x="1600200" y="2666880"/>
            <a:chExt cx="5943600" cy="3369240"/>
          </a:xfrm>
        </p:grpSpPr>
        <p:sp>
          <p:nvSpPr>
            <p:cNvPr id="141" name=""/>
            <p:cNvSpPr/>
            <p:nvPr/>
          </p:nvSpPr>
          <p:spPr>
            <a:xfrm>
              <a:off x="1600200" y="4630680"/>
              <a:ext cx="5943600" cy="779400"/>
            </a:xfrm>
            <a:prstGeom prst="ellipse">
              <a:avLst/>
            </a:prstGeom>
            <a:gradFill rotWithShape="0">
              <a:gsLst>
                <a:gs pos="0">
                  <a:srgbClr val="008d8d"/>
                </a:gs>
                <a:gs pos="50000">
                  <a:srgbClr val="00cccc"/>
                </a:gs>
                <a:gs pos="100000">
                  <a:srgbClr val="008d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00200" y="3121200"/>
              <a:ext cx="5943600" cy="1908000"/>
            </a:xfrm>
            <a:prstGeom prst="rect">
              <a:avLst/>
            </a:prstGeom>
            <a:gradFill rotWithShape="0">
              <a:gsLst>
                <a:gs pos="0">
                  <a:srgbClr val="008d8d"/>
                </a:gs>
                <a:gs pos="50000">
                  <a:srgbClr val="00cccc"/>
                </a:gs>
                <a:gs pos="100000">
                  <a:srgbClr val="008d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1600200" y="2666880"/>
              <a:ext cx="5943600" cy="838440"/>
              <a:chOff x="1600200" y="2666880"/>
              <a:chExt cx="5943600" cy="838440"/>
            </a:xfrm>
          </p:grpSpPr>
          <p:sp>
            <p:nvSpPr>
              <p:cNvPr id="144" name=""/>
              <p:cNvSpPr/>
              <p:nvPr/>
            </p:nvSpPr>
            <p:spPr>
              <a:xfrm>
                <a:off x="1600200" y="2666880"/>
                <a:ext cx="5943600" cy="838440"/>
              </a:xfrm>
              <a:prstGeom prst="ellipse">
                <a:avLst/>
              </a:prstGeom>
              <a:gradFill rotWithShape="0">
                <a:gsLst>
                  <a:gs pos="0">
                    <a:srgbClr val="00cccc"/>
                  </a:gs>
                  <a:gs pos="100000">
                    <a:srgbClr val="008d8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572000" y="2819520"/>
                <a:ext cx="2438280" cy="533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133720" y="2819520"/>
                <a:ext cx="2438280" cy="533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4195080" y="5456160"/>
              <a:ext cx="7732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V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06760" y="5106960"/>
              <a:ext cx="531720" cy="608040"/>
            </a:xfrm>
            <a:prstGeom prst="line">
              <a:avLst/>
            </a:prstGeom>
            <a:ln w="25560">
              <a:solidFill>
                <a:srgbClr val="00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56800" y="2833560"/>
              <a:ext cx="1368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b2b2b2"/>
                  </a:solidFill>
                  <a:latin typeface="Times New Roman"/>
                </a:rPr>
                <a:t>PV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71400" y="2833560"/>
              <a:ext cx="1368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b2b2b2"/>
                  </a:solidFill>
                  <a:latin typeface="Times New Roman"/>
                </a:rPr>
                <a:t>PV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09:48Z</dcterms:created>
  <dc:creator>telekom</dc:creator>
  <dc:description/>
  <dc:language>en-US</dc:language>
  <cp:lastModifiedBy>Heinz Mauelshagen</cp:lastModifiedBy>
  <cp:lastPrinted>1998-05-28T18:02:56Z</cp:lastPrinted>
  <dcterms:modified xsi:type="dcterms:W3CDTF">1999-02-21T19:15:18Z</dcterms:modified>
  <cp:revision>293</cp:revision>
  <dc:subject/>
  <dc:title>Vorstellung einer Neuhei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1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linux.msede.com/lvm</vt:lpwstr>
  </property>
  <property fmtid="{D5CDD505-2E9C-101B-9397-08002B2CF9AE}" pid="9" name="LinkColor">
    <vt:r8>16711782</vt:r8>
  </property>
  <property fmtid="{D5CDD505-2E9C-101B-9397-08002B2CF9AE}" pid="10" name="MailAddress">
    <vt:lpwstr>linux-lvm@ez-darmstadt.telekom.de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Eigene Dateien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