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0491013"/>
        <c:axId val="61444626"/>
      </c:barChart>
      <c:catAx>
        <c:axId val="2049101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444626"/>
        <c:crosses val="autoZero"/>
        <c:auto val="1"/>
        <c:lblAlgn val="ctr"/>
        <c:lblOffset val="100"/>
        <c:noMultiLvlLbl val="0"/>
      </c:catAx>
      <c:valAx>
        <c:axId val="6144462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49101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26BD5-0B2B-476B-9C14-2B544ABAC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4BF3D-0F04-420D-AEBC-22788C722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82CA9-D7EB-4C7F-931A-8B1511135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92271-334D-4933-A40F-16FFD8B98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EC89A-12C6-4A29-9F25-73C449315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924AD-B3CA-485B-81B2-D6DDDBAE1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456D2-1366-4535-B768-888423878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39A4B-39FD-4668-BCC3-4D83F75AE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33752-8CAD-4119-9CB5-25C6F2D1A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1C23E-6909-4598-B17B-8713ED407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F4AB0-930D-4FC3-A3E8-24A2B1C3B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E6BAA-5220-4C3D-AB70-23765252B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77BC7C-57A6-4E8A-B559-4548B5D6AD3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